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BCED-4B2B-4086-9329-31B5CE3D5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9590-53F1-4727-8555-E1D76E0C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3650-0E7C-4790-90F9-23389CD23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EE78-C8EE-4EEE-80E6-3B8529C10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7966-9CE6-4763-AFB2-CFB72D26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8CA2-253F-452E-9431-DD063E65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D40E-A4F8-4B49-A976-D1BD8B8D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0F24-4682-4B2A-8FC6-A656BFBF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F944-29EE-4249-AE4C-C474102C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E4E2-F547-4C50-B1FE-ECCFF35B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A3A7-4E4E-45D8-AA67-18A7ED67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F286-B045-4090-8F19-D788B0D5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 Math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64E4-7D10-407C-B025-C9CD422A8D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Graphs and relations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Cambria Math"/>
              </a:rPr>
              <a:t>Construction and interpretation of graphs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Example, Ex 10A, Q. 9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You do Ex 10A, Q. 10, 11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Extrapolation and interpolation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Extrapolation examines the relationship between two variables beyond the limit of the data. 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Interpolation is to infer the relationship between two distinct data points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Example, Ex 10A, Q.12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You do Ex 10A, Q. 13, 15, 16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599840"/>
            <a:ext cx="8472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If a relationship exists between variables, one can be said to be the </a:t>
            </a:r>
            <a:r>
              <a:rPr b="1" lang="en-AU" sz="3000" spc="-1" strike="noStrike">
                <a:solidFill>
                  <a:srgbClr val="000000"/>
                </a:solidFill>
                <a:latin typeface="Cambria Math"/>
              </a:rPr>
              <a:t>function</a:t>
            </a: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 of the other. You can describe a function with a table, a rule, or a graph.</a:t>
            </a:r>
            <a:endParaRPr b="0" lang="en-US" sz="30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A function whose graph is a straight line is called a </a:t>
            </a:r>
            <a:r>
              <a:rPr b="1" lang="en-AU" sz="3000" spc="-1" strike="noStrike">
                <a:solidFill>
                  <a:srgbClr val="000000"/>
                </a:solidFill>
                <a:latin typeface="Cambria Math"/>
              </a:rPr>
              <a:t>linear function</a:t>
            </a: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The general equation of a straight line is</a:t>
            </a:r>
            <a:endParaRPr b="0" lang="en-US" sz="30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                               </a:t>
            </a: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where m is the gradient and c is the y-intercept .   </a:t>
            </a:r>
            <a:endParaRPr b="0" lang="en-US" sz="30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b3a2c7"/>
                </a:solidFill>
                <a:latin typeface="Cambria Math"/>
              </a:rPr>
              <a:t>(Draw graphs)               </a:t>
            </a:r>
            <a:endParaRPr b="0" lang="en-US" sz="3000" spc="-1" strike="noStrike">
              <a:solidFill>
                <a:srgbClr val="000000"/>
              </a:solidFill>
              <a:latin typeface="Cambria Math"/>
            </a:endParaRPr>
          </a:p>
        </p:txBody>
      </p:sp>
      <p:graphicFrame>
        <p:nvGraphicFramePr>
          <p:cNvPr id="45" name="Object 2"/>
          <p:cNvGraphicFramePr/>
          <p:nvPr/>
        </p:nvGraphicFramePr>
        <p:xfrm>
          <a:off x="714240" y="4714920"/>
          <a:ext cx="243360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4714920"/>
                    <a:ext cx="243360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Example, Ex 10A, Q.1, 4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You do Ex 10A, Q. 5, 6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Sketching straight-line graphs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 graph of a straight line can be obtained by plotting and joining together any </a:t>
            </a:r>
            <a:r>
              <a:rPr b="1" lang="en-AU" sz="3200" spc="-1" strike="noStrike">
                <a:solidFill>
                  <a:srgbClr val="000000"/>
                </a:solidFill>
                <a:latin typeface="Cambria Math"/>
              </a:rPr>
              <a:t>two points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on the line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 three most common ways of sketching a straight-line graph by hand are: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 Math"/>
              </a:rPr>
              <a:t>Gradient-intercept method. 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 Math"/>
              </a:rPr>
              <a:t>x- and y- intercept method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 Math"/>
              </a:rPr>
              <a:t>Sketching a line over a required interval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Gradient-intercept form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00120"/>
            <a:ext cx="85438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Usually easiest when equation is in</a:t>
            </a:r>
            <a:endParaRPr b="0" lang="en-US" sz="30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                             </a:t>
            </a: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form. </a:t>
            </a:r>
            <a:endParaRPr b="0" lang="en-US" sz="3000" spc="-1" strike="noStrike">
              <a:solidFill>
                <a:srgbClr val="000000"/>
              </a:solidFill>
              <a:latin typeface="Cambria Math"/>
            </a:endParaRPr>
          </a:p>
          <a:p>
            <a:pPr lvl="1" marL="91440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mbria Math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mbria Math"/>
              </a:rPr>
              <a:t>Plot the y-intercept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1" marL="91440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mbria Math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mbria Math"/>
              </a:rPr>
              <a:t>The gradient is given by m = rise/run. Write the gradient as a fraction and identify the rise and the run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1" marL="91440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mbria Math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mbria Math"/>
              </a:rPr>
              <a:t>Plot the second point by starting from the y-intercept and moving across and up or down as suggested by the gradient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1" marL="91440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mbria Math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mbria Math"/>
              </a:rPr>
              <a:t>Join the two points together with a straight line and label the graph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Example, Ex 10A, Q.7b</a:t>
            </a:r>
            <a:endParaRPr b="0" lang="en-US" sz="3000" spc="-1" strike="noStrike">
              <a:solidFill>
                <a:srgbClr val="000000"/>
              </a:solidFill>
              <a:latin typeface="Cambria Math"/>
            </a:endParaRPr>
          </a:p>
        </p:txBody>
      </p:sp>
      <p:graphicFrame>
        <p:nvGraphicFramePr>
          <p:cNvPr id="53" name="Object 3"/>
          <p:cNvGraphicFramePr/>
          <p:nvPr/>
        </p:nvGraphicFramePr>
        <p:xfrm>
          <a:off x="785880" y="1928880"/>
          <a:ext cx="207180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1928880"/>
                    <a:ext cx="207180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x- and y- intercept method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mbria Math"/>
              </a:rPr>
              <a:t>Usually easiest when equation is in</a:t>
            </a:r>
            <a:endParaRPr b="0" lang="en-US" sz="27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mbria Math"/>
              </a:rPr>
              <a:t>                             </a:t>
            </a:r>
            <a:r>
              <a:rPr b="0" lang="en-AU" sz="2700" spc="-1" strike="noStrike">
                <a:solidFill>
                  <a:srgbClr val="000000"/>
                </a:solidFill>
                <a:latin typeface="Cambria Math"/>
              </a:rPr>
              <a:t>form.</a:t>
            </a:r>
            <a:endParaRPr b="0" lang="en-US" sz="2700" spc="-1" strike="noStrike">
              <a:solidFill>
                <a:srgbClr val="000000"/>
              </a:solidFill>
              <a:latin typeface="Cambria Math"/>
            </a:endParaRPr>
          </a:p>
          <a:p>
            <a:pPr lvl="1" marL="91440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mbria Math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mbria Math"/>
              </a:rPr>
              <a:t>If a point is on the y-axis, its x-coordinate is 0. To find the y-intercept, substitute 0 for x and solve the equation.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lvl="1" marL="91440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mbria Math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mbria Math"/>
              </a:rPr>
              <a:t>If a point is on the x-axis, its y-coordinate is 0. To find the x-intercept, substitute 0 for y and solve the equation.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lvl="1" marL="91440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mbria Math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mbria Math"/>
              </a:rPr>
              <a:t>Plot the x- and y- intercepts on a set of axes.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lvl="1" marL="91440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mbria Math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mbria Math"/>
              </a:rPr>
              <a:t>Join the two points together with a straight line and label the graph.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mbria Math"/>
              </a:rPr>
              <a:t>Example, Ex 10A, Q.7a</a:t>
            </a:r>
            <a:endParaRPr b="0" lang="en-US" sz="2700" spc="-1" strike="noStrike">
              <a:solidFill>
                <a:srgbClr val="000000"/>
              </a:solidFill>
              <a:latin typeface="Cambria Math"/>
            </a:endParaRPr>
          </a:p>
          <a:p>
            <a:pPr lvl="1" marL="91440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 Math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714240" y="1928880"/>
          <a:ext cx="2000520" cy="58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1928880"/>
                    <a:ext cx="200052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mbria Math"/>
              </a:rPr>
              <a:t>Sketching a line over a required interval</a:t>
            </a:r>
            <a:endParaRPr b="0" lang="en-US" sz="40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To sketch a graph between two given x-values, its end points must be known. We obtain the coordinates of the end points and join them together.</a:t>
            </a:r>
            <a:endParaRPr b="0" lang="en-US" sz="3000" spc="-1" strike="noStrike">
              <a:solidFill>
                <a:srgbClr val="000000"/>
              </a:solidFill>
              <a:latin typeface="Cambria Math"/>
            </a:endParaRPr>
          </a:p>
          <a:p>
            <a:pPr lvl="1" marL="831960" indent="-468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mbria Math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mbria Math"/>
              </a:rPr>
              <a:t>Rearrange the equation to make y the subject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1" marL="831960" indent="-468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mbria Math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mbria Math"/>
              </a:rPr>
              <a:t>Substitute each of the two given x-values and find the corresponding values of y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1" marL="831960" indent="-468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mbria Math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mbria Math"/>
              </a:rPr>
              <a:t>Plot the end points on a set of axes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1" marL="831960" indent="-468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mbria Math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mbria Math"/>
              </a:rPr>
              <a:t>Join the two points together and label the graph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Example, Ex 10A, Q.7g</a:t>
            </a:r>
            <a:endParaRPr b="0" lang="en-US" sz="30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You do Ex 10A, Q. 7c, d, f, h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Applications of straight-line graphs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When modelling a linear relationship, remember that the y-intercept represents the value of the function when x = 0. This is usually the original value of something or a fixed cost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 gradient represents the rate of change of the y-value with respect to the x-value. This is the change in y as x increases by 1 unit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22:54:18Z</dcterms:created>
  <dc:creator>08843474</dc:creator>
  <dc:description/>
  <dc:language>en-US</dc:language>
  <cp:lastModifiedBy>08843474</cp:lastModifiedBy>
  <dcterms:modified xsi:type="dcterms:W3CDTF">2011-06-02T01:14:15Z</dcterms:modified>
  <cp:revision>3</cp:revision>
  <dc:subject/>
  <dc:title>Graphs and relations</dc:title>
</cp:coreProperties>
</file>